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CDB-F12E-405B-BEED-C5B89C9C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02D-1102-4481-9A2D-1267460E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182-8042-462F-980B-F2282AE7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AEA-98A6-4FDC-8791-E0FA47B1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72B1-568F-4A2D-8B50-9BD78D75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2109-D97C-4C69-9900-CE2D0BA7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DA5B-5286-46F6-8A7E-D2FEA9F4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B458-5495-410D-B34C-4619F4EE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A92E-583D-48F9-9A51-6879AA2E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B3F6-325A-434F-B723-70AE03B0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4585-ECE9-4916-961A-89789D55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D2C-603E-4F6C-9679-20D6117B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CE8E-DEDC-4CD6-BE06-25F2FD08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08EB-A19F-4697-8BB3-E2E1B64A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6C22-1BBD-4C44-9E15-1E103933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9FD0-0978-4F6B-86E4-ACDCEF35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CBDE-CD0F-4BCB-9B87-9676F304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B7F-03E7-4946-99E8-727E3B2C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B0F-D5D6-4425-A3FE-8DFB476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E50-9F40-4200-B615-F38020AB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064-9A4D-42D3-B928-700E0AAE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8AF-C936-42DB-AB32-458148BB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095-E1CD-43CD-ABF6-4623035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659-D4D9-4C8E-9F8D-96AB73E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315A-B57E-440C-98A5-755A46E979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1181-FE12-408F-9E5E-4FC2E113DA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41280" y="54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K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6640" y="2649960"/>
            <a:ext cx="733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KAL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liczba oznaczająca, ile razy daną rzecz pomniejszyliśmy lub powiększyliśm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ALE LICZB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089000"/>
            <a:ext cx="27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 –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raz rzeczywi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6640" y="1628640"/>
            <a:ext cx="702144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kala pomniej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2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3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3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0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10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6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16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06640" y="3608280"/>
            <a:ext cx="7021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kala powięk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5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5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15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440" y="5124600"/>
            <a:ext cx="651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poniższych skal wybierz skale pomniejszające i powiększają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0960" y="5858640"/>
            <a:ext cx="84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: 7         13 : 1         1000 : 1          1 : 20         1 : 55         150 : 1         1 : 1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 SKALOW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172" descr=""/>
          <p:cNvPicPr/>
          <p:nvPr/>
        </p:nvPicPr>
        <p:blipFill>
          <a:blip r:embed="rId1"/>
          <a:srcRect l="3985" t="7887" r="62359" b="39974"/>
          <a:stretch/>
        </p:blipFill>
        <p:spPr>
          <a:xfrm>
            <a:off x="1376280" y="1494000"/>
            <a:ext cx="1890720" cy="2339640"/>
          </a:xfrm>
          <a:prstGeom prst="rect">
            <a:avLst/>
          </a:prstGeom>
          <a:ln w="0">
            <a:noFill/>
          </a:ln>
        </p:spPr>
      </p:pic>
      <p:pic>
        <p:nvPicPr>
          <p:cNvPr id="107" name="Obraz 172" descr=""/>
          <p:cNvPicPr/>
          <p:nvPr/>
        </p:nvPicPr>
        <p:blipFill>
          <a:blip r:embed="rId2"/>
          <a:srcRect l="3972" t="7863" r="62340" b="39958"/>
          <a:stretch/>
        </p:blipFill>
        <p:spPr>
          <a:xfrm>
            <a:off x="4572000" y="1444680"/>
            <a:ext cx="3782880" cy="4684680"/>
          </a:xfrm>
          <a:prstGeom prst="rect">
            <a:avLst/>
          </a:prstGeom>
          <a:ln w="0">
            <a:noFill/>
          </a:ln>
        </p:spPr>
      </p:pic>
      <p:pic>
        <p:nvPicPr>
          <p:cNvPr id="108" name="Obraz 172" descr=""/>
          <p:cNvPicPr/>
          <p:nvPr/>
        </p:nvPicPr>
        <p:blipFill>
          <a:blip r:embed="rId3"/>
          <a:srcRect l="3972" t="7863" r="62340" b="39958"/>
          <a:stretch/>
        </p:blipFill>
        <p:spPr>
          <a:xfrm>
            <a:off x="1892160" y="5183280"/>
            <a:ext cx="474840" cy="587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46280" y="1112760"/>
            <a:ext cx="12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1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3789360"/>
            <a:ext cx="27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zeczywiste wymiary zdję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1066680"/>
            <a:ext cx="121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2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7360" y="4735440"/>
            <a:ext cx="12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1 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5773680"/>
            <a:ext cx="274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djęcie zostało pomniejszone 4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6087960"/>
            <a:ext cx="27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djęcie zostało powiększon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0"/>
            <a:ext cx="80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 – SKALA POMNIEJSZAJĄ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764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640" y="1042920"/>
            <a:ext cx="84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. Dany jest odcinek o długości 400 cm. Jaka będzie długość odcinka w skali 1 : 10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63440" y="194256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400 cm : 100 =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640" y="2484360"/>
            <a:ext cx="78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 Dany jest odcinek o długości 6 mm. Jaka będzie długość odcinka w skali 1 : 2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06400" y="2887920"/>
            <a:ext cx="5313240" cy="520200"/>
            <a:chOff x="1706400" y="2887920"/>
            <a:chExt cx="5313240" cy="520200"/>
          </a:xfrm>
        </p:grpSpPr>
        <p:sp>
          <p:nvSpPr>
            <p:cNvPr id="123" name=""/>
            <p:cNvSpPr/>
            <p:nvPr/>
          </p:nvSpPr>
          <p:spPr>
            <a:xfrm>
              <a:off x="1706400" y="288792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 :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Łącznik prosty ze strzałką 177"/>
            <p:cNvCxnSpPr/>
            <p:nvPr/>
          </p:nvCxnSpPr>
          <p:spPr>
            <a:xfrm>
              <a:off x="3671640" y="32493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1916640" y="3421800"/>
            <a:ext cx="50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6 mm : 2 = 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7360" y="4014720"/>
            <a:ext cx="8235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. Dany jest odcinek o długości 600 m. Jaka będzie długość odcinka w skali 1 : 10000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ierwszej kolejności zamieniamy 600 m na centymetry. Pamiętamy, że 1 m = 100 cm.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tem 600 m = 60 000 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6040" y="4845240"/>
            <a:ext cx="53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0 00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1 :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0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 rzeczywis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                                po zastosowaniu sk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Łącznik prosty ze strzałką 177"/>
          <p:cNvCxnSpPr/>
          <p:nvPr/>
        </p:nvCxnSpPr>
        <p:spPr>
          <a:xfrm>
            <a:off x="3941280" y="5229000"/>
            <a:ext cx="963000" cy="1080"/>
          </a:xfrm>
          <a:prstGeom prst="straightConnector1">
            <a:avLst/>
          </a:prstGeom>
          <a:ln w="1260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1829520" y="5363280"/>
            <a:ext cx="60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60 000 cm : 10000 = 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616040" y="1357560"/>
            <a:ext cx="5313240" cy="520200"/>
            <a:chOff x="1616040" y="1357560"/>
            <a:chExt cx="5313240" cy="520200"/>
          </a:xfrm>
        </p:grpSpPr>
        <p:sp>
          <p:nvSpPr>
            <p:cNvPr id="131" name=""/>
            <p:cNvSpPr/>
            <p:nvPr/>
          </p:nvSpPr>
          <p:spPr>
            <a:xfrm>
              <a:off x="1616040" y="135756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400 c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 : 1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4 c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Łącznik prosty ze strzałką 177"/>
            <p:cNvCxnSpPr/>
            <p:nvPr/>
          </p:nvCxnSpPr>
          <p:spPr>
            <a:xfrm>
              <a:off x="3581280" y="17175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0"/>
            <a:ext cx="80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 – SKALA POWIĘKSZAJĄ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764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640" y="1042920"/>
            <a:ext cx="84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. Dany jest odcinek o długości 3 mm. Jaka będzie długość odcinka w skali 100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3080" y="1942560"/>
            <a:ext cx="57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 mm • 100 = 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640" y="2484360"/>
            <a:ext cx="78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 Dany jest odcinek o długości 8 cm. Jaka będzie długość odcinka w skali 8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06400" y="3022920"/>
            <a:ext cx="5313240" cy="520200"/>
            <a:chOff x="1706400" y="3022920"/>
            <a:chExt cx="5313240" cy="520200"/>
          </a:xfrm>
        </p:grpSpPr>
        <p:sp>
          <p:nvSpPr>
            <p:cNvPr id="141" name=""/>
            <p:cNvSpPr/>
            <p:nvPr/>
          </p:nvSpPr>
          <p:spPr>
            <a:xfrm>
              <a:off x="1706400" y="302292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: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64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Łącznik prosty ze strzałką 177"/>
            <p:cNvCxnSpPr/>
            <p:nvPr/>
          </p:nvCxnSpPr>
          <p:spPr>
            <a:xfrm>
              <a:off x="3671640" y="33843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1916640" y="3556800"/>
            <a:ext cx="51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8 cm • 8 = 6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7360" y="4249800"/>
            <a:ext cx="82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Dany jest odcinek o długości 15 m. Jaka będzie długość odcinka w skali 5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86040" y="4845240"/>
            <a:ext cx="53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: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 rzeczywis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                                po zastosowaniu sk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Łącznik prosty ze strzałką 177"/>
          <p:cNvCxnSpPr/>
          <p:nvPr/>
        </p:nvCxnSpPr>
        <p:spPr>
          <a:xfrm>
            <a:off x="3941280" y="5229000"/>
            <a:ext cx="963000" cy="1080"/>
          </a:xfrm>
          <a:prstGeom prst="straightConnector1">
            <a:avLst/>
          </a:prstGeom>
          <a:ln w="1260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827360" y="5363280"/>
            <a:ext cx="50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5 m • 5 = 7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16040" y="1357560"/>
            <a:ext cx="5313240" cy="520200"/>
            <a:chOff x="1616040" y="1357560"/>
            <a:chExt cx="5313240" cy="520200"/>
          </a:xfrm>
        </p:grpSpPr>
        <p:sp>
          <p:nvSpPr>
            <p:cNvPr id="149" name=""/>
            <p:cNvSpPr/>
            <p:nvPr/>
          </p:nvSpPr>
          <p:spPr>
            <a:xfrm>
              <a:off x="1616040" y="135756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: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00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Łącznik prosty ze strzałką 177"/>
            <p:cNvCxnSpPr/>
            <p:nvPr/>
          </p:nvCxnSpPr>
          <p:spPr>
            <a:xfrm>
              <a:off x="3581280" y="17175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7:51Z</dcterms:modified>
  <cp:revision>31</cp:revision>
  <dc:subject/>
  <dc:title>Slajd 1</dc:title>
</cp:coreProperties>
</file>